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536-9573-4340-B04C-1754AAA4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985-EEA0-4421-A64B-A841E34D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4D5-B4D4-4603-B29D-CEA99383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B9E-A7EE-473E-B732-73F2FAB5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1E71-9163-4307-B4C6-73E4F0FC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210E-3C9F-457F-BFB0-6D09EF9E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E713-592F-40BE-8FAD-392012AD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CB4D-36E2-4EC6-A2B6-998EEF05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C901-4696-4918-903B-74C6B204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55E8-F481-4221-9632-236863CD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1D91-7FAA-4F3B-98A8-8FBEE3D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026-2BFC-4F37-8B88-E75D2379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BF7D-6D60-4D11-B807-11597EAB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83CC-AF82-4876-8AA5-515E86EC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9DFD-DD5D-48B7-9694-EF4E167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6EF1-246C-42A8-8609-ACAB7DFB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9942-8A8A-4DF1-A1CA-6C78EE9B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827-E564-456E-913A-097F04F5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574-38B1-440D-BE02-15FBD1CB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001-E840-4A7D-87BE-42894CCA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C6C-3AF5-458C-ABC8-60C03823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E1A6-5F15-4045-96A1-D64F3EB3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89A-121F-4F1A-BAF7-86636A69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7D5-8F29-41B5-BE39-FE8FB813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914400" indent="-223920">
              <a:spcBef>
                <a:spcPts val="451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56060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4" marL="1990800" indent="-316080">
              <a:spcBef>
                <a:spcPts val="4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5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6" marL="1990800" indent="-316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1E72-0383-424D-93D4-6D06026BC5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58200" y="304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2485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91400" y="304920"/>
            <a:ext cx="452520" cy="609120"/>
            <a:chOff x="8591400" y="304920"/>
            <a:chExt cx="452520" cy="609120"/>
          </a:xfrm>
        </p:grpSpPr>
        <p:sp>
          <p:nvSpPr>
            <p:cNvPr id="9" name=""/>
            <p:cNvSpPr/>
            <p:nvPr/>
          </p:nvSpPr>
          <p:spPr>
            <a:xfrm>
              <a:off x="859140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752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83640" y="3049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9140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8752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83640" y="38412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79760" y="38412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9140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7520" y="462960"/>
              <a:ext cx="68040" cy="558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8364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79760" y="46296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75880" y="46296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91400" y="541800"/>
              <a:ext cx="68040" cy="5652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8752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83640" y="5418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879760" y="5418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9140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87520" y="621000"/>
              <a:ext cx="68040" cy="5652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78364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79760" y="621000"/>
              <a:ext cx="68040" cy="565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975880" y="621000"/>
              <a:ext cx="68040" cy="565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591400" y="700200"/>
              <a:ext cx="68040" cy="558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8752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83640" y="70020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879760" y="70020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59140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87520" y="779040"/>
              <a:ext cx="68040" cy="55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78364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879760" y="7790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68752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879760" y="858240"/>
              <a:ext cx="68040" cy="558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" name=""/>
          <p:cNvSpPr/>
          <p:nvPr/>
        </p:nvSpPr>
        <p:spPr>
          <a:xfrm>
            <a:off x="208440" y="6232680"/>
            <a:ext cx="21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Decision Models - Stern Air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4D92-54CA-4C31-BBDA-AECC5B348E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lvl="1" marL="3430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90480" algn="ctr">
              <a:spcBef>
                <a:spcPts val="349"/>
              </a:spcBef>
              <a:buClr>
                <a:srgbClr val="ff6600"/>
              </a:buClr>
              <a:buSzPct val="7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88920" indent="27936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indent="39204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 indent="3920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466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99"/>
                </a:solidFill>
                <a:latin typeface="Arial"/>
              </a:rPr>
              <a:t>Decision Models</a:t>
            </a:r>
            <a:endParaRPr b="1" lang="en-US" sz="37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33520" y="304956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99"/>
                </a:solidFill>
                <a:latin typeface="Arial"/>
              </a:rPr>
              <a:t>Fleet Assignment and Flight Scheduling-Optimizing under uncertainty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6699"/>
                </a:solidFill>
                <a:latin typeface="Arial"/>
              </a:rPr>
              <a:t>May 1, 2006</a:t>
            </a:r>
            <a:endParaRPr b="0" lang="en-US" sz="19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5638680"/>
            <a:ext cx="1523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336699"/>
                </a:solidFill>
                <a:latin typeface="Arial"/>
              </a:rPr>
              <a:t>Team 5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imesh An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Anand Baldaw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Rajeev Ra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6699"/>
                </a:solidFill>
                <a:latin typeface="Arial"/>
              </a:rPr>
              <a:t>Shivanker Saxe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 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829" t="0" r="0" b="5934"/>
          <a:stretch/>
        </p:blipFill>
        <p:spPr>
          <a:xfrm>
            <a:off x="708120" y="1066680"/>
            <a:ext cx="7692840" cy="495144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95A-4CD9-47EF-B9DB-40628CEA7E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351" t="0" r="8108" b="0"/>
          <a:stretch/>
        </p:blipFill>
        <p:spPr>
          <a:xfrm>
            <a:off x="2009880" y="1066680"/>
            <a:ext cx="5105160" cy="5048280"/>
          </a:xfrm>
          <a:prstGeom prst="rect">
            <a:avLst/>
          </a:prstGeom>
          <a:ln w="25560">
            <a:solidFill>
              <a:srgbClr val="3366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209-D38E-47DC-B571-D4170A031F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Extend Solution (contd..)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694560" cy="30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6CF-B700-43C3-9575-BECCC88C4A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from EXTEND simu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1828800"/>
            <a:ext cx="8076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vised annual profit (after accounting for variations in demand and flying time)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773-5FA4-4D14-85A5-F0778B06D5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Optimizing under uncertainty (OPTQUEST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102440" cy="1590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4840" y="2666880"/>
            <a:ext cx="69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 forecast = $276,000/day =$94 M/year (assuming 340 days/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9360" y="343224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For comparison- Results from Ex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7277040" cy="1673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6400" y="5638680"/>
            <a:ext cx="2981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fit forecast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1371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371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5720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16765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1981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981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50292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50292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1981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F45-E176-496E-B349-39ECF8E37A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xpected variability in flight times and demand reduces expected profit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ptimizing under uncertainty seems to be a superior approach and could yield up to 12% higher profit.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ixed demand and flight times: Profit = $104 mill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Varying demand and flight time (EXTEND): Profit = $84 mill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Arial"/>
              </a:rPr>
              <a:t>Varying demand and flight time (OPTIQUEST) = $95 mill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20B-3019-4A01-BEDD-489260A6A3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Price (revenue)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268-A42C-4EFF-9330-142102E0AB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90720"/>
            <a:ext cx="38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Operating cost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4486320" cy="2162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28800" y="3886200"/>
            <a:ext cx="44863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950-C360-4F2F-87DD-2651A52F8D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2952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passenger demand for each ro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5740560"/>
            <a:ext cx="8077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A81-E845-412A-8920-54860F5112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verage flight time for each route (one 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561348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A25-8831-47E8-8B6C-A70BC19D88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06668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Use of Solver and Ex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irect optimization under uncertainty (OPT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350-57C6-4A96-A168-D2B093CC38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istorical average on-time performance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613120" cy="27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ED2-E478-4F15-A434-1C41FB8622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066680"/>
            <a:ext cx="8076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2164" t="38273" r="33597" b="30211"/>
          <a:stretch/>
        </p:blipFill>
        <p:spPr>
          <a:xfrm>
            <a:off x="685800" y="1600200"/>
            <a:ext cx="582948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408-6C2E-4D7B-A615-BDC501E0E5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629400" cy="1523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4920" y="10684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olver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27816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otal Pro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372440" cy="1648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4920" y="5410080"/>
            <a:ext cx="8076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assuming the aircrafts run 340 days / year: $ 103.94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5D0-2E05-4013-A5D6-8E234C04DC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85800" y="1047600"/>
            <a:ext cx="6858000" cy="513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7B9-6AB4-4F96-955F-3BA7F6F543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olver Solution (contd..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662940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D59-AA1B-4702-A27D-3A32935890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sults from EXTEND simulation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06668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vised annual profit (after accounting for variations in demand and flying time) =$8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Uncertainty reduces potential profit by $2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3416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A34-58BC-4D6A-8DC0-AC4B014417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0570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99"/>
                </a:solidFill>
                <a:latin typeface="Arial"/>
              </a:rPr>
              <a:t>Questions ?</a:t>
            </a:r>
            <a:r>
              <a:rPr b="1" lang="en-US" sz="2500" spc="-1" strike="noStrike">
                <a:solidFill>
                  <a:srgbClr val="669999"/>
                </a:solidFill>
                <a:latin typeface="Arial"/>
              </a:rPr>
              <a:t> 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336699"/>
                </a:solidFill>
                <a:latin typeface="Arial"/>
              </a:rPr>
              <a:t>(Don’t forget the Happy Hour today!)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irline Fleet Scheduling is a complex problem.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ignificant effects on airline bottom-line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Blue aircraft utilization rate 46% higher NWA in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Blue’s operating cost = 3.2c/ASM* vs. 5.1c/ASM for NW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s can increase flight time, destroy schedules, passenger goodwill and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al to incorporate uncertainty in the optimization proces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spcBef>
                <a:spcPts val="400"/>
              </a:spcBef>
              <a:buClr>
                <a:srgbClr val="3399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schedule and fleet assignment is a key competitive advan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0800" y="57261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Available Seat M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392-C76B-4408-8F3F-B7C27F9AEC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838080"/>
            <a:ext cx="853416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tern Air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Key Management: Stern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Other employees: HBS/Stanford/Columbia grad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Six possible destina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fter evaluating various characteristics such as pricing, demand, gate availability and costs, competitor pro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15 possible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4 aircraf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, 2 Boeing 737-500 and 2 Airbus A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irbus A320: 144 seats; turnaround time of 3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A1 and A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3366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Boeing 737-500: 108 seats; turnaround time of 25min 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B1 and 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5BB-74F0-4056-8EB9-51D2C7CD49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roblem Definitio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0666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99"/>
                </a:solidFill>
                <a:latin typeface="Arial"/>
              </a:rPr>
              <a:t>Develop a model to assign routes to each aircraft in the fleet such that profits are max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196-5D75-4FCC-8707-48520E8D92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219320"/>
            <a:ext cx="84582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two aircrafts can have identical ro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o route can be flown more than six times in a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An aircraft should end its day in the city it start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Airbus &lt; 84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otal flying time (plus turnaround time) for Boeing &lt; 1,080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Spill cost = 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7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rofit: Revenue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(demand – spill over) * number of passengers]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osts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[respective cost per route + (spill over * $450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85D-202A-4635-836B-99158522B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proach 1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Optimize and then simulate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Optimize route selection and fleet assignment assuming fixed demand and flight times in Solver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roduce uncertainty in demand and flight times via EXTEND simulation and measure penalties 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ubtract penalties from maximum profit to get a “realistic” profit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581280"/>
            <a:ext cx="75438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Approach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267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Optimize and simulate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99"/>
                </a:solidFill>
                <a:latin typeface="Arial"/>
              </a:rPr>
              <a:t>Optimize under uncertainty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using  OPTQUEST module (in CRYSTAL BALL) to directly obtain optimal conditions under uncertain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00"/>
              </a:spcBef>
              <a:buClr>
                <a:srgbClr val="33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(crude equivalent of Solver and Crystal Ball combined in 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858-A58F-4274-A472-3E6833537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sults under fixed demand (Solver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277040" cy="1673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41440" y="12193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et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038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aily profit = $305,7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nnual profit (aircrafts run 340 days / year): $ 104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1C2-EFC4-4B2D-8F55-059F4D4A9A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0769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Variability introduced via EXTEN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676520"/>
            <a:ext cx="8076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 and Flight time are based on a normal distribution with a standard deviation of 10% of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Demand Spill cost =$450/pass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60000"/>
              </a:lnSpc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Flight delay cost = $100/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5F5-5060-476A-8423-E1AF1F58A5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9:04:52Z</dcterms:created>
  <dc:creator>ABaldawa</dc:creator>
  <dc:description/>
  <dc:language>en-US</dc:language>
  <cp:lastModifiedBy>RR</cp:lastModifiedBy>
  <dcterms:modified xsi:type="dcterms:W3CDTF">2006-04-30T18:46:12Z</dcterms:modified>
  <cp:revision>207</cp:revision>
  <dc:subject/>
  <dc:title>Descartes Systems Group, Inc </dc:title>
</cp:coreProperties>
</file>